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BAD5-7280-4AE6-8033-FDD57EEEE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06B4-5F5F-452D-B4AC-1C9AF24F6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85C0-AF35-486F-A1E3-09366751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D338-325E-4915-8C5F-185AAFC16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C6B3-784D-41EA-AEAB-F1C2E82C3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6E89-DE4C-41F1-8B6E-E711DA2E1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FF21-2973-43DB-9482-5702E5221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3297-00EE-4A9C-894D-AB68EB5F8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154D-ADBF-4DB4-BBD3-60CBE449E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5DB4-FD75-4522-98D6-59667E51E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FC96-5FD4-421C-8E47-FA532A6DC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DEC4-98C3-48E0-ADBD-C17D76B27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enance and Context Workshop Introduction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20C-49C1-4D20-A798-0A93C5AFB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venance &amp; Context Workshop - Introduction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1 (Wednesday afterno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 - R. Duerr (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from Winter meeting - Rob Raskin  (15 m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guiding documents (OAIS, PREMIS, USGCRP) - R. Duerr (30 m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nance and Context Research (4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Fr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ce Barkst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. Due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(2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k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miss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plan for 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2 (Thursday, 2 pm) -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prior days plans.  New ideas? Modific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ze report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 into writing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3 (Thursday, 3:30 pm) - 2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breakouts (1 hou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vene and determine plan for finalizing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raft Document Outlin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the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 (use real examples wherever 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past expe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other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policies and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s (difference between the ideal and re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ings to think about as you attend other session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ata stewardship lessons can be lear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sues should be brought forward at the provenance worksh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4:34:40Z</dcterms:modified>
  <cp:revision>4</cp:revision>
  <dc:subject/>
  <dc:title>Preservation &amp; Stewardship</dc:title>
</cp:coreProperties>
</file>